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B7A1-784A-4F95-999B-1AE894A1B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tinent Seri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t, dry summers, mild, wet wi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found in 5 places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ifornia, Northern Baja, Califor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n of the 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ern Austra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cape of South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Cost of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egon to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0 species of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tree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35 inches of rainfall p/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emperatures 10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temperatures 0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° to 70° No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dra means barren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is permanetly frozen 10” to 3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erage temperature -18°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the sun never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lds’ coldest/driest bi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four specific 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jave Desert – the smallest, but where Death Valley can reach 134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shua Tree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huahuan Desert – found in Mexico, it gets 8-12 inches of rain per year.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Century Plan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st peak is Denali, Alas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gby, North Dako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er poin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Ame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% of the earth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largest i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umbia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rad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o Gran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 River - long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issipp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hi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ssouri/Mississippi River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,879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iferous For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area of 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es, fir and spruce trees, produce cones which contains the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l mountains have supported tree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and stormy in the 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ening storms in the 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found 0 - 50° degrees north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er glaciers from New England to Indi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rate climate, 4 seasons and they get 2 - 4 feet of rain per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es are oaks, maples, beeches, hickories and as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4E5-1A19-4682-AB5B-A8E197B2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B6C-1010-44AD-845B-2589CA03D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5F61-B356-4A32-8B87-8277CD46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F0B-B4A8-4447-84F9-41A481A63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E026-8BA3-4958-9A65-BA8842BC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964D-ED57-4D18-AD37-77871CC3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625C-FA71-4B71-BFD9-7674CD01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2A81-2B18-4FC1-B12D-007375E5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2055-9F59-4A1F-805F-7B7158D2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02C8-695A-4F0E-9625-31CBE1E7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B78B-1600-420B-AE00-63F2A03A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60CA-481A-46B6-B5D2-5A5DC0E4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9F88A-5C5B-4DDE-8AB3-4F2FB733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38D-5EBE-4FD9-9C36-EDFCEEC0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D63D-2B1B-435C-B4DC-CDFA67DD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9C6D-5156-4DF1-A71F-7C15CD916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B70B-1563-4BAA-ACAF-9FE4F3F7E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F0C-C87A-4A73-8165-E050B861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9ADB-8EC6-491C-BCBB-2DF4E559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9A58-3E9F-4B38-8D9D-D445D818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EFD-50F2-4BB6-83ED-618E607E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A6C-7AB5-4595-8433-E8B3EEB9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6105-B9A6-4E42-8DAB-38F109AF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5BF-237A-4600-AC69-123D6FAD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B8E4-6DF6-4AB0-BC21-780F8280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EB06-2663-44F4-AE48-79BE0CE59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800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</a:t>
            </a:r>
            <a:br>
              <a:rPr sz="4800"/>
            </a:b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The Continent Series</a:t>
            </a: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3300"/>
                </a:solidFill>
                <a:latin typeface="Times New Roman"/>
              </a:rPr>
              <a:t>Mediterranean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ot, dry summers, mild, wet wi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nly found in 5 places on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alifornia, Northern Baja, Califor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Basin of the Mediterranean S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uthwestern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estern cape of South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ral Cost of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alifornia Coast"/>
          <p:cNvPicPr/>
          <p:nvPr/>
        </p:nvPicPr>
        <p:blipFill>
          <a:blip r:embed="rId1"/>
          <a:stretch/>
        </p:blipFill>
        <p:spPr>
          <a:xfrm>
            <a:off x="3951360" y="4754520"/>
            <a:ext cx="3476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for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 contains the largest continuous area of costal temperate rainforest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regon to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50 species of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5 tree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Olympic%20National%20Park2"/>
          <p:cNvPicPr/>
          <p:nvPr/>
        </p:nvPicPr>
        <p:blipFill>
          <a:blip r:embed="rId1"/>
          <a:stretch/>
        </p:blipFill>
        <p:spPr>
          <a:xfrm>
            <a:off x="6618240" y="3184560"/>
            <a:ext cx="223848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Gras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2-35 inches of rainfall p/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emperatures 10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inter temperatures 0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rasslands_national_park"/>
          <p:cNvPicPr/>
          <p:nvPr/>
        </p:nvPicPr>
        <p:blipFill>
          <a:blip r:embed="rId1"/>
          <a:stretch/>
        </p:blipFill>
        <p:spPr>
          <a:xfrm>
            <a:off x="6510240" y="2813040"/>
            <a:ext cx="1800360" cy="279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800px-Grasslands-menggu"/>
          <p:cNvPicPr/>
          <p:nvPr/>
        </p:nvPicPr>
        <p:blipFill>
          <a:blip r:embed="rId2"/>
          <a:stretch/>
        </p:blipFill>
        <p:spPr>
          <a:xfrm>
            <a:off x="3122640" y="3209760"/>
            <a:ext cx="2763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Tundra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55° to 70° N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undra means barren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ound is permanetly frozen 10” to 3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verage temperature -18°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ummer the sun never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Worlds’ coldest/driest 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anaktuvuk_scenery"/>
          <p:cNvPicPr/>
          <p:nvPr/>
        </p:nvPicPr>
        <p:blipFill>
          <a:blip r:embed="rId1"/>
          <a:stretch/>
        </p:blipFill>
        <p:spPr>
          <a:xfrm>
            <a:off x="5070600" y="4297320"/>
            <a:ext cx="31525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27440" y="414000"/>
            <a:ext cx="6316560" cy="61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Dese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482560" y="1020240"/>
            <a:ext cx="6661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re four specific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Sonoran Desert found in California, Arizona and Mexico.  Low elevation which makes it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jave Desert – the smallest, but where Death Valley can reach 134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Joshua Tree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hihuahuan Desert – found in Mexico, it gets 8-12 inches of rain per year.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Century Plan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Great Basin – Nevada with Mountain ranges over 10,000 feet, 4- 11 inches of snow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phnadde"/>
          <p:cNvPicPr/>
          <p:nvPr/>
        </p:nvPicPr>
        <p:blipFill>
          <a:blip r:embed="rId1"/>
          <a:stretch/>
        </p:blipFill>
        <p:spPr>
          <a:xfrm>
            <a:off x="316080" y="663480"/>
            <a:ext cx="2104920" cy="3581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phjtwde"/>
          <p:cNvPicPr/>
          <p:nvPr/>
        </p:nvPicPr>
        <p:blipFill>
          <a:blip r:embed="rId2"/>
          <a:stretch/>
        </p:blipFill>
        <p:spPr>
          <a:xfrm>
            <a:off x="5448240" y="3137040"/>
            <a:ext cx="1828800" cy="1218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entury-plant-blossoms"/>
          <p:cNvPicPr/>
          <p:nvPr/>
        </p:nvPicPr>
        <p:blipFill>
          <a:blip r:embed="rId3"/>
          <a:stretch/>
        </p:blipFill>
        <p:spPr>
          <a:xfrm>
            <a:off x="8271000" y="4791240"/>
            <a:ext cx="65880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511080" y="309240"/>
            <a:ext cx="6316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north-america"/>
          <p:cNvPicPr/>
          <p:nvPr/>
        </p:nvPicPr>
        <p:blipFill>
          <a:blip r:embed="rId1"/>
          <a:stretch/>
        </p:blipFill>
        <p:spPr>
          <a:xfrm>
            <a:off x="3479760" y="1558800"/>
            <a:ext cx="4460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world image"/>
          <p:cNvPicPr/>
          <p:nvPr/>
        </p:nvPicPr>
        <p:blipFill>
          <a:blip r:embed="rId1"/>
          <a:stretch/>
        </p:blipFill>
        <p:spPr>
          <a:xfrm>
            <a:off x="2335320" y="1816200"/>
            <a:ext cx="58197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Unique featur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Highest peak is Denali, Ala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Rugby, North Dako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enter point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heartbeats_of_denali_L"/>
          <p:cNvPicPr/>
          <p:nvPr/>
        </p:nvPicPr>
        <p:blipFill>
          <a:blip r:embed="rId1"/>
          <a:stretch/>
        </p:blipFill>
        <p:spPr>
          <a:xfrm>
            <a:off x="3322800" y="2103480"/>
            <a:ext cx="2608200" cy="17492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1224_01_58---Rugby--North-Dakota--USA_web"/>
          <p:cNvPicPr/>
          <p:nvPr/>
        </p:nvPicPr>
        <p:blipFill>
          <a:blip r:embed="rId2"/>
          <a:stretch/>
        </p:blipFill>
        <p:spPr>
          <a:xfrm>
            <a:off x="6419880" y="4141800"/>
            <a:ext cx="146844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North America’s Siz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.8% of the earth’s 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rd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largest i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north-america"/>
          <p:cNvPicPr/>
          <p:nvPr/>
        </p:nvPicPr>
        <p:blipFill>
          <a:blip r:embed="rId1"/>
          <a:stretch/>
        </p:blipFill>
        <p:spPr>
          <a:xfrm>
            <a:off x="2990880" y="1531800"/>
            <a:ext cx="482904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82744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Bodies of 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46120" y="1531440"/>
            <a:ext cx="79502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lumbia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lorad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Arial"/>
              </a:rPr>
              <a:t>Rio Gran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issouri River - long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Mississippi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hio 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issouri/Mississippi River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                 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3,879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Bodies_of_Water_6"/>
          <p:cNvPicPr/>
          <p:nvPr/>
        </p:nvPicPr>
        <p:blipFill>
          <a:blip r:embed="rId1"/>
          <a:stretch/>
        </p:blipFill>
        <p:spPr>
          <a:xfrm>
            <a:off x="4272120" y="1757520"/>
            <a:ext cx="413352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namerica_climate"/>
          <p:cNvPicPr/>
          <p:nvPr/>
        </p:nvPicPr>
        <p:blipFill>
          <a:blip r:embed="rId1"/>
          <a:stretch/>
        </p:blipFill>
        <p:spPr>
          <a:xfrm>
            <a:off x="2624040" y="1784520"/>
            <a:ext cx="6519960" cy="40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3300"/>
                </a:solidFill>
                <a:latin typeface="Times New Roman"/>
              </a:rPr>
              <a:t>Coniferous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Upper area of Nor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ines, fir and spruce trees, produce cones which contains the s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all mountains have supported tree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Cold and stormy in the 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ightening storms in the 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cforestmt"/>
          <p:cNvPicPr/>
          <p:nvPr/>
        </p:nvPicPr>
        <p:blipFill>
          <a:blip r:embed="rId1"/>
          <a:stretch/>
        </p:blipFill>
        <p:spPr>
          <a:xfrm>
            <a:off x="4289400" y="4592520"/>
            <a:ext cx="307656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ciduou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y are found 0 - 50° degrees north latit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mer glaciers from New England to Indi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Moderate climate, 4 seasons and they get 2 - 4 feet of rain pe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rees are oaks, maples, beeches, hickories and 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121"/>
          <p:cNvPicPr/>
          <p:nvPr/>
        </p:nvPicPr>
        <p:blipFill>
          <a:blip r:embed="rId1"/>
          <a:stretch/>
        </p:blipFill>
        <p:spPr>
          <a:xfrm>
            <a:off x="6099120" y="4476600"/>
            <a:ext cx="209232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9T15:37:29Z</dcterms:created>
  <dc:creator>Rob</dc:creator>
  <dc:description/>
  <cp:keywords>North America the continent</cp:keywords>
  <dc:language>en-US</dc:language>
  <cp:lastModifiedBy>RomaK</cp:lastModifiedBy>
  <dcterms:modified xsi:type="dcterms:W3CDTF">2015-09-04T09:44:14Z</dcterms:modified>
  <cp:revision>7</cp:revision>
  <dc:subject/>
  <dc:title>North America the continent</dc:title>
</cp:coreProperties>
</file>